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A3C7-E632-46BE-82BE-758F618B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0977-33AF-427C-A60F-AF17E0A1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89E5-11A4-4D4D-A4CB-EBD20596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8C6D-2431-47E0-8CE5-16DE2FFF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44E8-E594-41E1-A53C-2F298446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C55F-3D3B-40AD-BC65-75CDE881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E016-2F2A-46D7-84DF-1459B3AF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DD5F-E5E3-47CE-A19F-3EB2B2A5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5862-CD63-45F1-A513-377B4E34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CD88-3C42-484F-83CA-C666C3F7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D1D6-EF49-4B4B-ACD4-8B821E1D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BBFC-F536-4CE4-B8FC-F34ACC5A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56D0-C126-48FB-88A1-9759F5A7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FBEC-CE95-45AF-B01A-0E70D71A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7367-ADAC-4AF0-B703-E0D05E2F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A40A-228B-4B4E-813E-6256A22D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8FCE-E5F1-4D40-A994-399B8227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53FD-99E6-4DE3-9C96-12AF9A9E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C3E8-BF3F-47EC-AE8A-FCB23FCA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4F7B-1319-4F5C-956A-5D16142A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FA08-B004-49C8-88DB-2749D6CA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42B7-7BB6-4C1E-9555-9B9B3257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7E87-AA3F-4332-8469-219F38F7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DC89-6CB4-4E86-A2D9-15DBFD2F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0A84-51C2-4759-816F-2518E4CA1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8B90-6455-4095-8B37-B76BD0AF7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ord Wall Word Blitz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st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hav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sing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em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can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man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h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does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h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littl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is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ha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int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b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up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did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saw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m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alk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en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on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bu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how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g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n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m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wa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com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down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ill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r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look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pla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d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lik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a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no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on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re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ge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w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ea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m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big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1:32:39Z</dcterms:created>
  <dc:creator>csinclair</dc:creator>
  <dc:description/>
  <dc:language>en-US</dc:language>
  <cp:lastModifiedBy>tbledsoe</cp:lastModifiedBy>
  <dcterms:modified xsi:type="dcterms:W3CDTF">2009-10-01T00:04:49Z</dcterms:modified>
  <cp:revision>3</cp:revision>
  <dc:subject/>
  <dc:title>Word Wall Word Blitz!</dc:title>
</cp:coreProperties>
</file>