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E48-CF1D-49AC-975C-44C05EAD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6F9-CA7C-4520-9829-1E3EEE5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2CE-2EE7-4C6A-9B77-72DFE627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E05-14F5-4DE5-AC55-AB552D22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F0E9-4DD0-4BB8-9367-26939514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0595-7F26-4A72-BB8A-5094F6A5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67B5-D9E5-400E-9388-C7A96716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4A2D-1D9E-4871-9D3A-17A333E2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1B0-DA27-4D38-BBE7-AEB8BB1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4327-515E-490A-9D3B-19F128C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E37F-414E-46AA-A31B-E3031DF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D0F-596E-4D71-AC79-B7AE33B9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0ED-70CE-4E87-861D-DFD1290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446F-6EDE-4E2D-96F4-6C5D517D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A4BC-B46D-43B7-A7E6-50BE41C7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2688-8E24-46CD-8E2F-CB8B6972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C43C-13DC-4D1B-BFE6-E8C2F509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B9C-A684-446A-9D91-D66829A6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3EC-FBB3-4AD2-B7EB-E78362CB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47B-7984-47F6-A382-20DFAB3F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D28-420C-4DB6-B4F0-74B3DF5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26A-535A-4AC8-A46C-6785713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E21-0A9B-4D33-B928-0FEE740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9A2-1771-461E-BD14-9728F8B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3D72-1BDE-42BD-AA94-E7D26CB2D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6BB2-7D7C-48CB-88E0-537F92B26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d Wall Word Blit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in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n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u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w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w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ik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124080" y="1981080"/>
            <a:ext cx="3124440" cy="3048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23880" y="2666880"/>
            <a:ext cx="6400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1:32:39Z</dcterms:created>
  <dc:creator>csinclair</dc:creator>
  <dc:description/>
  <dc:language>en-US</dc:language>
  <cp:lastModifiedBy>tbledsoe</cp:lastModifiedBy>
  <dcterms:modified xsi:type="dcterms:W3CDTF">2009-10-01T00:04:49Z</dcterms:modified>
  <cp:revision>3</cp:revision>
  <dc:subject/>
  <dc:title>Word Wall Word Blitz!</dc:title>
</cp:coreProperties>
</file>