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154-540C-481C-AB91-53D5444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6CF-AABC-4B0A-9842-215F2C20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307-4029-4B73-9038-EFA335E0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CD7-068F-4546-AD93-C7F911DF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8E1E-A56E-4248-A78E-C4FB9105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685B-C765-43D7-97C7-04679DF9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6984-C7E0-4D5D-A89D-CD1B113C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E095-CBCD-407F-8D0F-2D27E7D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C5D9-B15B-487D-A424-EA6DED8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2F65-6C15-4CAB-BD5A-126996A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B62-95DC-41CA-8E0F-A0AD596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497-CFCC-4E74-AD9F-AA920DD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0567-0EBF-4BB7-B6FD-5EA6FEC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B50-6125-4A1D-B29C-E132CB5A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5546-380D-4937-81CA-B589111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BF48-1F2E-4E4C-B9D9-14E633F8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ABD5-3BBF-4603-B1C7-88214B40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2F4-A2CB-48F1-8BE7-F8E374B7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82E-28A3-4D95-A078-2A92517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6B6-C419-479A-ACBC-E4B8C095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12D-F527-40B2-B4F3-28A0350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02D-EC7E-46DC-AEA1-C918A8C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C85-8CAE-4251-BB93-65ACAD0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10F-F350-4475-AE53-929D652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30F8-B74E-4279-A8FA-915047BFE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C83A-4B39-4F4C-905D-123717C1E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d Wall Word Blit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w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1:32:39Z</dcterms:created>
  <dc:creator>csinclair</dc:creator>
  <dc:description/>
  <dc:language>en-US</dc:language>
  <cp:lastModifiedBy>tbledsoe</cp:lastModifiedBy>
  <dcterms:modified xsi:type="dcterms:W3CDTF">2009-10-01T00:04:49Z</dcterms:modified>
  <cp:revision>3</cp:revision>
  <dc:subject/>
  <dc:title>Word Wall Word Blitz!</dc:title>
</cp:coreProperties>
</file>