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84B5-A693-4CD2-A7C8-DEC8FD82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A12-77B2-4F52-B0FC-040E7CD9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367D-31C1-4FC9-A0F6-3E9B64FB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DD1A-798B-4A6C-B412-F6E6A872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94C2-1AFC-4C72-98E0-8FE2E85B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7D50-650F-44F6-853C-69EC979C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165A-5EDA-4161-A67C-B53490DC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09C1-36F0-4639-A8AD-7FB9C261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F4CE-8755-402D-9C73-80423714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16A1-08DD-44DD-8286-36830888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53B5-AD8C-4E4B-85E0-6862EAD4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888C-2B29-4ACB-8558-35A3D397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10CD-A12F-4861-8026-FDA1433A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9885-E20F-4995-A393-987142F4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27D7-7AEA-41E4-B7CA-AA695234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D65E-6EC7-4DB6-8906-9E0CC763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7D06-5C2A-4931-9482-1E5717D6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74A3-8E5B-406F-89BB-94B67993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E1C-1C67-4D62-913C-4319553C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B631-DB08-4566-BFBE-5620068F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DC29-FE64-4839-AAA9-DA8CAAE8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005-049E-451B-B96D-7D9CA066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358B-5174-42B3-95FC-3F5534BF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244-7EDE-4233-9241-2ADBA021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DC37-3AE3-4383-BFAF-1597FBF6B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E5F2-C1D1-4A4A-8EF3-8A04C491A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ord Wall Word Blitz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hav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sing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em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ca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man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h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does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littl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is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h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int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b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up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did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saw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m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alk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en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o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bu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how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g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m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wa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com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dow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ill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r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look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lik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no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on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re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w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e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m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big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1:32:39Z</dcterms:created>
  <dc:creator>csinclair</dc:creator>
  <dc:description/>
  <dc:language>en-US</dc:language>
  <cp:lastModifiedBy>tbledsoe</cp:lastModifiedBy>
  <dcterms:modified xsi:type="dcterms:W3CDTF">2009-10-01T00:04:49Z</dcterms:modified>
  <cp:revision>3</cp:revision>
  <dc:subject/>
  <dc:title>Word Wall Word Blitz!</dc:title>
</cp:coreProperties>
</file>