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02D-0EDA-4835-815D-72A2FA92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310-FB43-42A4-92B0-63619F5D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306-970F-4AF4-944A-A52CB7C9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DAE-4D8D-4CDF-9E87-C52CAB0A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B8AF-0C65-4751-90F1-44C4EE7D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23A8-4E27-44B1-A330-9E3A10C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DEE8-5C46-4D75-9EEF-C463BCEB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409E-8F1B-4906-9187-61D9031A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6B29-8446-4DDD-BCE5-189BA09F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074E-17FC-4F5A-A84B-76F4A404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FB1F-3CAB-4052-8071-7E9FA51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DDE-E547-4863-925B-06C27770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8D5C-684F-42AA-A28D-031F51DC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47FF-E40A-4EE6-9B10-B4305B41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47D0-3B90-48ED-9B35-7DAA9E6F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7A52-1F9B-401F-BE0F-E2333905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D46C-5C32-42B4-BA31-B731E368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F9F-4D9A-48EE-B667-D4E2D7BF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42F-0381-4B0C-B63E-6E20E9DE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1EE-367A-4BFE-B1D6-C95F9DDD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034-C0E4-46D6-8F07-3C8A38A4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8D8-E16C-4413-8FBF-E8B0CACF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815-C0A6-4EB4-97A7-F3B20D9C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543-D60E-4134-B2E0-983BB10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02AC-72DC-4F36-B199-72ECE6539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338C-32BD-4EFA-A01F-8F845CFDE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d Wall Word Blit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in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a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u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w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w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1:32:39Z</dcterms:created>
  <dc:creator>csinclair</dc:creator>
  <dc:description/>
  <dc:language>en-US</dc:language>
  <cp:lastModifiedBy>tbledsoe</cp:lastModifiedBy>
  <dcterms:modified xsi:type="dcterms:W3CDTF">2009-10-01T00:04:49Z</dcterms:modified>
  <cp:revision>3</cp:revision>
  <dc:subject/>
  <dc:title>Word Wall Word Blitz!</dc:title>
</cp:coreProperties>
</file>