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EFC-7754-4B89-AD1A-18C5E1F3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709-9DDC-4ECA-AA72-AEC2C65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587-5658-4EFC-A3C2-4F4E737B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F39-5ED1-4008-A24A-59FBA092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E99C-EC22-4C69-92AB-18B52CD6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E711-CB15-408E-AD97-6852DB8E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A684-C6CD-42B9-9BA4-3573E8FC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9EB7-E639-4785-BB95-2194B485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F573-AAFE-48C6-8BEB-B921FA51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9BDB-23B4-4350-8176-F3657F4B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9EFD-F8AC-4ECE-9DA4-ED2BC58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440-1E8E-47C6-A6AF-8705D788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3BCE-82A6-4596-A367-5F5F8AB3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3639-C0AC-4264-A990-4D52B510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A391-FF28-415D-B54E-0156A51B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B2B7-F658-4E70-AABF-D0A62DD6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C35D-F1A5-473D-9771-DA2E2C0F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588-80B3-47DB-A26E-1341F78C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0BA-69A9-408C-B32E-242B0E8B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5B1-7274-4A6A-9D24-4E4A89A3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661-8F55-4B2A-BD9D-AEB0802A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BD3-B418-4A36-AD10-4F75B10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EA2-24CC-4FE7-BEA4-3EDAE4A9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082-D5C1-4B19-9B43-779860F9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394-CF1E-4878-ABBE-B7DBFB814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414B-D78F-4DFE-920E-4F8CD8A92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d Wall Word Blit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in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a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u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w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w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1:32:39Z</dcterms:created>
  <dc:creator>csinclair</dc:creator>
  <dc:description/>
  <dc:language>en-US</dc:language>
  <cp:lastModifiedBy>tbledsoe</cp:lastModifiedBy>
  <dcterms:modified xsi:type="dcterms:W3CDTF">2009-10-01T00:04:49Z</dcterms:modified>
  <cp:revision>3</cp:revision>
  <dc:subject/>
  <dc:title>Word Wall Word Blitz!</dc:title>
</cp:coreProperties>
</file>